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020D-DCA0-4350-8D76-B7DE85EC3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5F46-662B-4FD6-9717-8C2C49A94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32AF-04A9-47AF-8C78-F20C69882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0EAC-8755-486B-95A8-2B713B127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0450-5CFD-4C1A-983B-EC3980A54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690A-584D-4B73-9A91-5A623E3CF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D48D-7604-412E-B4A5-D2BB2C39A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3F28-E822-40D8-BC73-379FD46C8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CCBD-BEDA-4F68-841F-9B29717D1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4350-7363-4A1C-A85D-8526C4301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7145-629A-4541-83D4-9BA7F48B1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A347-AEB2-4D5A-9971-F36AA7510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6B52-FC0C-43F6-87C7-DAE507BD7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6CB4-F927-40F3-A142-FD12E0B6F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6814-43DB-4768-BCE7-92640292D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784-90E1-4444-9D95-D0E70B1B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587-C125-46CD-8109-ABA94C0D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D94-D9A9-4379-96A4-5723F8BB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119-722E-4D4D-9DA6-008AF128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030E-FF2B-4FAA-8646-055A3A6C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0058-4495-4AA8-A46C-BA5543D5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118E-8FBC-416C-8633-1F97BFB2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8D6B-0471-4BD6-9753-29DC0F2F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1AA9-AD43-44F2-84BC-707FFD04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C65D-3147-47AD-BC40-11EF4EDD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0F5E-5BC0-4321-8F48-BCFE38ED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A9A-D1C6-43A1-9152-28F00D8D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9D99-7BD6-4925-8B97-456257B8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6338-DE7B-4A19-9BEC-87258F58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EB0B-0AA3-4583-82E8-114E5E5D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EE9E-0C5B-4F6A-9528-56DE1B55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1DD8-ED3C-461A-BCAD-00EBBF45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C5C3-43F1-47C8-A309-0F70C7DB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56E12-D17D-4CBB-8B8A-58BD5BBE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00CBA-E8DF-4081-98F8-4B2CEF53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E28A8-2EA2-4AC2-95CF-D66835B1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0B5D5-FCAA-4FB9-8A3A-8B53ACA9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C03-DB55-47DE-9BCE-4602DD6B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0157F-EAEE-400B-8199-C97D20C3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EEAC-D151-424C-94F2-698AE9B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86584-3EF3-46E9-9D56-FAFD2067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B328F-98A1-4FDC-8BA9-8B199038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B3CB-FBDF-4FAF-A4E0-E7BC9887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08C8E-2D9E-4FB2-9633-776C207C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7334F-9285-4CBD-B8F0-A6BBB7ED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66D59-1DE3-4940-A77F-4EEC8E2B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1513D-1E0D-42EF-9B38-CA3B28D6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BD790-E7AD-4376-ACE9-5688271E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A3E-BD4B-4B67-B2B9-1CE40DEB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ADA3-F5A9-4585-9D74-D67EE6D4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75CBA-9295-40E6-8353-A5BE141E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EFAB0-EF0C-467C-A3CC-47D53750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14CEB-B398-49DF-8019-5B46D543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AE95-FA6A-4238-B741-1DBF44AC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AA21D-A6BB-483F-BDC9-A73BDF11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6CDE-20F3-4C22-A709-133EF5F6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165A6-DA3A-4050-B0BB-64FA4761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35D40-6448-456A-94AF-1319E732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8D4-70CA-4FD5-ABCA-987FBB87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F59-8B41-4F62-82F9-1348644E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C0E-F9E1-4600-A9C3-0E9BA5A2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B41-0853-4A40-ACE1-CED9387E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EBE-8804-4EE3-9765-EB15D59C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15F6-48C0-411E-8DEC-3D9F57A64CF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C14F-DB09-4F56-B14A-7FEF498310E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C4FA-71FF-4B55-83E6-1B56A741721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9441-4201-402C-A6E0-914E8B172FC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609480"/>
            <a:ext cx="793116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609480" y="37339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d by Liyusew Ayalew &amp; Gezahegne Kebede (EIAR) (HARC) at the Inception meeting for the ‘Fodder and feed in livestock value chains in Ethiopia’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RI, Addis Ababa, 21-22 Februar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Basal diet at large scale farm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F:\ILRI presentation (Liyusew)\Commercialization pics\HPIM0255.JPG"/>
          <p:cNvPicPr/>
          <p:nvPr/>
        </p:nvPicPr>
        <p:blipFill>
          <a:blip r:embed="rId1"/>
          <a:stretch/>
        </p:blipFill>
        <p:spPr>
          <a:xfrm>
            <a:off x="1676520" y="1935000"/>
            <a:ext cx="57909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Main production problems  and possible solutions for the input supply</a:t>
            </a:r>
            <a:br>
              <a:rPr sz="4400"/>
            </a:b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At small holder level(individuals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622520"/>
          <a:ext cx="8229600" cy="5381640"/>
        </p:xfrm>
        <a:graphic>
          <a:graphicData uri="http://schemas.openxmlformats.org/drawingml/2006/table">
            <a:tbl>
              <a:tblPr/>
              <a:tblGrid>
                <a:gridCol w="228600"/>
                <a:gridCol w="3809880"/>
                <a:gridCol w="4191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bl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sible Solu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gh f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eed pric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ut less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milk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rengthen of the linkage between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farm HHs to inputs and outputs market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ther in buying selling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ortage of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grazin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nd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hay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ductions l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rengthen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backyar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mproved forage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lk Price is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decide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y purchas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ce should be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negotiable and needs regular price monito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AI, Vaccine and health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vi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b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Strengt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I and health service at PA   level and Regular professional vis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urce for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improved breed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i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und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highly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mproved breed production should be encouraged on  private and government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b050"/>
                </a:solidFill>
                <a:latin typeface="Calibri"/>
              </a:rPr>
              <a:t>Inputs or ser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Who supplies AI/natural mat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of the dairy producers are getting AI service from district ministry of agri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ry few are using natural mating from their own selected bu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ry few are using AI and natural mating from their Owen  farm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90720"/>
            <a:ext cx="8229600" cy="914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t">
            <a:normAutofit fontScale="22000"/>
          </a:bodyPr>
          <a:p>
            <a:pPr marL="59760" indent="-59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nstantia"/>
              </a:rPr>
              <a:t>          </a:t>
            </a:r>
            <a:r>
              <a:rPr b="1" lang="en-US" sz="2800" spc="-1" strike="noStrike">
                <a:solidFill>
                  <a:srgbClr val="0000cc"/>
                </a:solidFill>
                <a:latin typeface="Constantia"/>
              </a:rPr>
              <a:t>Drags and vaccin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Drag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 -from private Animal drag shop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Vaccin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from Government institute and private drags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p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381880" cy="83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c00000"/>
                </a:solidFill>
                <a:latin typeface="Calibri"/>
              </a:rPr>
              <a:t>Equipment and other input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mall holders –Uses from their Owen locally made equipments and purchased from local mar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dium and large scale farms-  From foreign and domestic mar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305920" cy="160020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What is the main possible solution for input supply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286000"/>
            <a:ext cx="8305920" cy="403848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ustainable system should be develop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o link input suppliers with produce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More attention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hould be given to the secto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solidFill>
            <a:srgbClr val="5ff3ca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ocessing/marketing</a:t>
            </a:r>
            <a:br>
              <a:rPr sz="4500"/>
            </a:b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Main marketing channels for smallholder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981080" y="1905120"/>
            <a:ext cx="2210040" cy="533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80880" y="3809880"/>
            <a:ext cx="182880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5ef0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Proces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457200" y="5562720"/>
            <a:ext cx="1676520" cy="609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457200" y="2971800"/>
            <a:ext cx="1676520" cy="609480"/>
          </a:xfrm>
          <a:prstGeom prst="rect">
            <a:avLst/>
          </a:pr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Roadside coll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 flipH="1">
            <a:off x="456480" y="4800600"/>
            <a:ext cx="167652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super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2971800" y="3809880"/>
            <a:ext cx="2057400" cy="609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otel c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3124080" y="4724280"/>
            <a:ext cx="1828800" cy="7621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7"/>
          <p:cNvSpPr/>
          <p:nvPr/>
        </p:nvSpPr>
        <p:spPr>
          <a:xfrm>
            <a:off x="7315200" y="2666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ca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18"/>
          <p:cNvSpPr/>
          <p:nvPr/>
        </p:nvSpPr>
        <p:spPr>
          <a:xfrm>
            <a:off x="7162920" y="3733920"/>
            <a:ext cx="1600200" cy="990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cal market near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9"/>
          <p:cNvSpPr/>
          <p:nvPr/>
        </p:nvSpPr>
        <p:spPr>
          <a:xfrm>
            <a:off x="7238880" y="5029200"/>
            <a:ext cx="1600200" cy="16002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ot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ll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hole s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etai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24"/>
          <p:cNvSpPr/>
          <p:nvPr/>
        </p:nvSpPr>
        <p:spPr>
          <a:xfrm>
            <a:off x="55627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5562720" y="3886200"/>
            <a:ext cx="137160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ces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5562720" y="4800600"/>
            <a:ext cx="121896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uper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5562720" y="5715000"/>
            <a:ext cx="121896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own Arrow 28"/>
          <p:cNvSpPr/>
          <p:nvPr/>
        </p:nvSpPr>
        <p:spPr>
          <a:xfrm>
            <a:off x="1066680" y="3581280"/>
            <a:ext cx="152640" cy="15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own Arrow 29"/>
          <p:cNvSpPr/>
          <p:nvPr/>
        </p:nvSpPr>
        <p:spPr>
          <a:xfrm>
            <a:off x="1066680" y="46483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wn Arrow 30"/>
          <p:cNvSpPr/>
          <p:nvPr/>
        </p:nvSpPr>
        <p:spPr>
          <a:xfrm>
            <a:off x="1066680" y="52578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4"/>
          <p:cNvSpPr/>
          <p:nvPr/>
        </p:nvSpPr>
        <p:spPr>
          <a:xfrm>
            <a:off x="2209680" y="3352680"/>
            <a:ext cx="152640" cy="685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36"/>
          <p:cNvCxnSpPr/>
          <p:nvPr/>
        </p:nvCxnSpPr>
        <p:spPr>
          <a:xfrm flipV="1">
            <a:off x="2437200" y="4037760"/>
            <a:ext cx="252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2" name="Right Arrow 37"/>
          <p:cNvSpPr/>
          <p:nvPr/>
        </p:nvSpPr>
        <p:spPr>
          <a:xfrm>
            <a:off x="2362320" y="4114800"/>
            <a:ext cx="533160" cy="46080"/>
          </a:xfrm>
          <a:prstGeom prst="rightArrow">
            <a:avLst>
              <a:gd name="adj1" fmla="val 50000"/>
              <a:gd name="adj2" fmla="val 4992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Down Arrow 39"/>
          <p:cNvSpPr/>
          <p:nvPr/>
        </p:nvSpPr>
        <p:spPr>
          <a:xfrm>
            <a:off x="3962520" y="44197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42"/>
          <p:cNvSpPr/>
          <p:nvPr/>
        </p:nvSpPr>
        <p:spPr>
          <a:xfrm flipH="1">
            <a:off x="1218960" y="2286000"/>
            <a:ext cx="685800" cy="763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own Arrow 43"/>
          <p:cNvSpPr/>
          <p:nvPr/>
        </p:nvSpPr>
        <p:spPr>
          <a:xfrm>
            <a:off x="1219320" y="2438280"/>
            <a:ext cx="46080" cy="45720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Down Arrow 44"/>
          <p:cNvSpPr/>
          <p:nvPr/>
        </p:nvSpPr>
        <p:spPr>
          <a:xfrm>
            <a:off x="3581280" y="2514600"/>
            <a:ext cx="76320" cy="12193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6"/>
          <p:cNvSpPr/>
          <p:nvPr/>
        </p:nvSpPr>
        <p:spPr>
          <a:xfrm flipV="1">
            <a:off x="4191120" y="2133720"/>
            <a:ext cx="3581280" cy="38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own Arrow 47"/>
          <p:cNvSpPr/>
          <p:nvPr/>
        </p:nvSpPr>
        <p:spPr>
          <a:xfrm flipH="1">
            <a:off x="6218280" y="2209680"/>
            <a:ext cx="46080" cy="304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own Arrow 48"/>
          <p:cNvSpPr/>
          <p:nvPr/>
        </p:nvSpPr>
        <p:spPr>
          <a:xfrm>
            <a:off x="7772400" y="2209680"/>
            <a:ext cx="76320" cy="3812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Down Arrow 49"/>
          <p:cNvSpPr/>
          <p:nvPr/>
        </p:nvSpPr>
        <p:spPr>
          <a:xfrm>
            <a:off x="6172200" y="3505320"/>
            <a:ext cx="7632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own Arrow 50"/>
          <p:cNvSpPr/>
          <p:nvPr/>
        </p:nvSpPr>
        <p:spPr>
          <a:xfrm>
            <a:off x="6172200" y="4495680"/>
            <a:ext cx="7632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own Arrow 51"/>
          <p:cNvSpPr/>
          <p:nvPr/>
        </p:nvSpPr>
        <p:spPr>
          <a:xfrm>
            <a:off x="6172200" y="5410080"/>
            <a:ext cx="7632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own Arrow 52"/>
          <p:cNvSpPr/>
          <p:nvPr/>
        </p:nvSpPr>
        <p:spPr>
          <a:xfrm>
            <a:off x="7772400" y="342900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55"/>
          <p:cNvSpPr/>
          <p:nvPr/>
        </p:nvSpPr>
        <p:spPr>
          <a:xfrm>
            <a:off x="5334120" y="259092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o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own Arrow 56"/>
          <p:cNvSpPr/>
          <p:nvPr/>
        </p:nvSpPr>
        <p:spPr>
          <a:xfrm>
            <a:off x="6172200" y="2895480"/>
            <a:ext cx="7632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own Arrow 57"/>
          <p:cNvSpPr/>
          <p:nvPr/>
        </p:nvSpPr>
        <p:spPr>
          <a:xfrm>
            <a:off x="7924680" y="472428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rocessing/marketing</a:t>
            </a:r>
            <a:br>
              <a:rPr sz="4000"/>
            </a:b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in marketing channels for medium farm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609480" y="1905120"/>
            <a:ext cx="1905120" cy="609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09480" y="2819520"/>
            <a:ext cx="1828800" cy="5331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oadside coll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09480" y="3581280"/>
            <a:ext cx="190512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ces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533520" y="4495680"/>
            <a:ext cx="198108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uper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33520" y="5410080"/>
            <a:ext cx="19810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886200" y="2209680"/>
            <a:ext cx="1600200" cy="609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3886200" y="3124080"/>
            <a:ext cx="160020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3886200" y="2362320"/>
            <a:ext cx="1600200" cy="3682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el, ca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ight Arrow 11"/>
          <p:cNvSpPr/>
          <p:nvPr/>
        </p:nvSpPr>
        <p:spPr>
          <a:xfrm>
            <a:off x="2438280" y="2286000"/>
            <a:ext cx="13716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own Arrow 12"/>
          <p:cNvSpPr/>
          <p:nvPr/>
        </p:nvSpPr>
        <p:spPr>
          <a:xfrm>
            <a:off x="1447920" y="2362320"/>
            <a:ext cx="152280" cy="38088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own Arrow 13"/>
          <p:cNvSpPr/>
          <p:nvPr/>
        </p:nvSpPr>
        <p:spPr>
          <a:xfrm flipH="1">
            <a:off x="1370880" y="3429000"/>
            <a:ext cx="152280" cy="76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own Arrow 14"/>
          <p:cNvSpPr/>
          <p:nvPr/>
        </p:nvSpPr>
        <p:spPr>
          <a:xfrm>
            <a:off x="1219320" y="411480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own Arrow 15"/>
          <p:cNvSpPr/>
          <p:nvPr/>
        </p:nvSpPr>
        <p:spPr>
          <a:xfrm>
            <a:off x="1219320" y="50292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16"/>
          <p:cNvSpPr/>
          <p:nvPr/>
        </p:nvSpPr>
        <p:spPr>
          <a:xfrm>
            <a:off x="4495680" y="2895480"/>
            <a:ext cx="152640" cy="15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009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rocessing/marketing</a:t>
            </a:r>
            <a:br>
              <a:rPr sz="6600"/>
            </a:b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in marketing channels for Large scakle farm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560" y="1934640"/>
            <a:ext cx="883908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533520" y="2209680"/>
            <a:ext cx="198108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cessing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533520" y="3581280"/>
            <a:ext cx="190476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uper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457200" y="5029200"/>
            <a:ext cx="213372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ounded Rectangle 8"/>
          <p:cNvSpPr/>
          <p:nvPr/>
        </p:nvSpPr>
        <p:spPr>
          <a:xfrm>
            <a:off x="3200400" y="2133720"/>
            <a:ext cx="1905120" cy="5331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3200400" y="2895480"/>
            <a:ext cx="1905120" cy="685800"/>
          </a:xfrm>
          <a:prstGeom prst="rect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oad side coll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3276720" y="3962520"/>
            <a:ext cx="1828800" cy="685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ces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3200400" y="5105520"/>
            <a:ext cx="1905120" cy="609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uper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3200400" y="6095880"/>
            <a:ext cx="190512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Isosceles Triangle 14"/>
          <p:cNvSpPr/>
          <p:nvPr/>
        </p:nvSpPr>
        <p:spPr>
          <a:xfrm>
            <a:off x="5486400" y="2971800"/>
            <a:ext cx="1828800" cy="9144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otel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a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5562720" y="4419720"/>
            <a:ext cx="1828800" cy="761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own Arrow 24"/>
          <p:cNvSpPr/>
          <p:nvPr/>
        </p:nvSpPr>
        <p:spPr>
          <a:xfrm>
            <a:off x="1295280" y="31240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Down Arrow 25"/>
          <p:cNvSpPr/>
          <p:nvPr/>
        </p:nvSpPr>
        <p:spPr>
          <a:xfrm>
            <a:off x="1447920" y="4572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eft Arrow 26"/>
          <p:cNvSpPr/>
          <p:nvPr/>
        </p:nvSpPr>
        <p:spPr>
          <a:xfrm>
            <a:off x="2133720" y="2209680"/>
            <a:ext cx="1066680" cy="76320"/>
          </a:xfrm>
          <a:prstGeom prst="leftArrow">
            <a:avLst>
              <a:gd name="adj1" fmla="val 50000"/>
              <a:gd name="adj2" fmla="val 498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Down Arrow 27"/>
          <p:cNvSpPr/>
          <p:nvPr/>
        </p:nvSpPr>
        <p:spPr>
          <a:xfrm>
            <a:off x="4038480" y="2743200"/>
            <a:ext cx="484200" cy="76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Down Arrow 28"/>
          <p:cNvSpPr/>
          <p:nvPr/>
        </p:nvSpPr>
        <p:spPr>
          <a:xfrm>
            <a:off x="4038480" y="3581280"/>
            <a:ext cx="48420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Down Arrow 29"/>
          <p:cNvSpPr/>
          <p:nvPr/>
        </p:nvSpPr>
        <p:spPr>
          <a:xfrm>
            <a:off x="4038480" y="4648320"/>
            <a:ext cx="53352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own Arrow 30"/>
          <p:cNvSpPr/>
          <p:nvPr/>
        </p:nvSpPr>
        <p:spPr>
          <a:xfrm>
            <a:off x="4191120" y="5715000"/>
            <a:ext cx="457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own Arrow 31"/>
          <p:cNvSpPr/>
          <p:nvPr/>
        </p:nvSpPr>
        <p:spPr>
          <a:xfrm>
            <a:off x="6172200" y="3962520"/>
            <a:ext cx="152280" cy="38088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ight Arrow 32"/>
          <p:cNvSpPr/>
          <p:nvPr/>
        </p:nvSpPr>
        <p:spPr>
          <a:xfrm>
            <a:off x="5105520" y="2362320"/>
            <a:ext cx="2971800" cy="75960"/>
          </a:xfrm>
          <a:prstGeom prst="rightArrow">
            <a:avLst>
              <a:gd name="adj1" fmla="val 50000"/>
              <a:gd name="adj2" fmla="val 501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33"/>
          <p:cNvSpPr/>
          <p:nvPr/>
        </p:nvSpPr>
        <p:spPr>
          <a:xfrm>
            <a:off x="7620120" y="251460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ces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ounded Rectangle 34"/>
          <p:cNvSpPr/>
          <p:nvPr/>
        </p:nvSpPr>
        <p:spPr>
          <a:xfrm>
            <a:off x="7772400" y="365760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uper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35"/>
          <p:cNvSpPr/>
          <p:nvPr/>
        </p:nvSpPr>
        <p:spPr>
          <a:xfrm>
            <a:off x="7620120" y="464832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own Arrow 37"/>
          <p:cNvSpPr/>
          <p:nvPr/>
        </p:nvSpPr>
        <p:spPr>
          <a:xfrm>
            <a:off x="6324480" y="25909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Down Arrow 38"/>
          <p:cNvSpPr/>
          <p:nvPr/>
        </p:nvSpPr>
        <p:spPr>
          <a:xfrm>
            <a:off x="8153280" y="32767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own Arrow 39"/>
          <p:cNvSpPr/>
          <p:nvPr/>
        </p:nvSpPr>
        <p:spPr>
          <a:xfrm>
            <a:off x="8077320" y="434340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Who are the main market actors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57200" y="1752480"/>
          <a:ext cx="8229600" cy="4729320"/>
        </p:xfrm>
        <a:graphic>
          <a:graphicData uri="http://schemas.openxmlformats.org/drawingml/2006/table">
            <a:tbl>
              <a:tblPr/>
              <a:tblGrid>
                <a:gridCol w="2666880"/>
                <a:gridCol w="2819520"/>
                <a:gridCol w="2743200"/>
              </a:tblGrid>
              <a:tr h="66492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cc"/>
                          </a:solidFill>
                          <a:latin typeface="Constantia"/>
                        </a:rPr>
                        <a:t>At Small holder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7b6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At medium farm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7b6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Large scale farm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7b6"/>
                    </a:solidFill>
                  </a:tcPr>
                </a:tc>
              </a:tr>
              <a:tr h="413820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oad side milk collection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operativ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tels, caf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ion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a room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al HH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lk collection unions came and purchase at farm ga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vice centers such as Hotels, restaurants, kaf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lk processing companies came and purchase at the farm g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lk processing companies came and purchase at the farm g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vice centers such as Hotels, restaurants, kare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alibri"/>
              </a:rPr>
              <a:t>About Holett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465800"/>
          </a:xfrm>
          <a:prstGeom prst="rect">
            <a:avLst/>
          </a:prstGeom>
          <a:solidFill>
            <a:srgbClr val="b0dfa1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Altitude:-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2400 m above sea leve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Latitud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:- 9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00</a:t>
            </a:r>
            <a:r>
              <a:rPr b="1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Longitude:- :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8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0</a:t>
            </a:r>
            <a:r>
              <a:rPr b="1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Annual Rainfal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:- 1055 m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Farming syste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Crop livestock farming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Location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-western side of Addis Abeba on the highway from Addis to Ambo roa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Distanc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from Addis Abeba –Around 38 k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are the main problems associated with marketing and how might be solved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2133720"/>
          <a:ext cx="8229600" cy="470052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in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w it might be solv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3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w price of milk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ce should be negotiable also needs regular Price monit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12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gh price of feed, drags, vacc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eds Government attention, strengthening partnerships  lin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127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ort shelf life of milk and milk 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eds training on means of extending shelf life of the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b050"/>
                </a:solidFill>
                <a:latin typeface="Constantia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Production aspects</a:t>
            </a:r>
            <a:br>
              <a:rPr sz="54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ho are dairy producers?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2362320"/>
          <a:ext cx="9144000" cy="4190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mallholder f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dium f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rge scale f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lding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&lt;5 x bree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iry cows and producing both crop and Livestock (Individu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buClr>
                          <a:srgbClr val="0bd0d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holding&gt;5 to 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x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bre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dairy  cows mostly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fou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n and around urban  Area (Subsisten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buClr>
                          <a:srgbClr val="0bd0d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lding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&gt;10 x bree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iry cows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inly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targeting profit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rom dai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ducts (commerci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Breeds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320" y="1752480"/>
          <a:ext cx="9067680" cy="3810240"/>
        </p:xfrm>
        <a:graphic>
          <a:graphicData uri="http://schemas.openxmlformats.org/drawingml/2006/table">
            <a:tbl>
              <a:tblPr/>
              <a:tblGrid>
                <a:gridCol w="2971800"/>
                <a:gridCol w="3047760"/>
                <a:gridCol w="3048120"/>
              </a:tblGrid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mallholder f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dium f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rge scale f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7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cal breed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X breeds (50%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risian crosses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 breeds (50,75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&amp; above 75%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risian crosses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 breeds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(75 &amp; above 75%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risian crosses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f0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Health stat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981080"/>
          <a:ext cx="9144000" cy="4816440"/>
        </p:xfrm>
        <a:graphic>
          <a:graphicData uri="http://schemas.openxmlformats.org/drawingml/2006/table">
            <a:tbl>
              <a:tblPr/>
              <a:tblGrid>
                <a:gridCol w="3218040"/>
                <a:gridCol w="3335040"/>
                <a:gridCol w="25909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mallholder 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dium 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rge scale 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8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rnal and extern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as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cuff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rnal and extern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as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ff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ath at deli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ed poising c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ompla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ind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ot and mou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ff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ath at deli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lves de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ot and mou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31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eeding: </a:t>
            </a: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mall holder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Feed type and its source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600200"/>
          <a:ext cx="8839080" cy="5583240"/>
        </p:xfrm>
        <a:graphic>
          <a:graphicData uri="http://schemas.openxmlformats.org/drawingml/2006/table">
            <a:tbl>
              <a:tblPr/>
              <a:tblGrid>
                <a:gridCol w="573120"/>
                <a:gridCol w="2619360"/>
                <a:gridCol w="2290680"/>
                <a:gridCol w="33559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s of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ed 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re it acmes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</a:tr>
              <a:tr h="24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Basal di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azing, w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een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ra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ats h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unal grazing farm and 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t of his Farm land(kel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t of his Farm 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op resid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wn for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</a:tr>
              <a:tr h="274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Supplement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at b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ereal hal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tte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een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 proc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 proc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en pla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lour fac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rade gr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e made local 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tai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ck yarded improved fo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01028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Medium Dairy Farm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eed type and its source……….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09480" y="1981080"/>
          <a:ext cx="8534520" cy="4694400"/>
        </p:xfrm>
        <a:graphic>
          <a:graphicData uri="http://schemas.openxmlformats.org/drawingml/2006/table">
            <a:tbl>
              <a:tblPr/>
              <a:tblGrid>
                <a:gridCol w="573120"/>
                <a:gridCol w="2551320"/>
                <a:gridCol w="1600200"/>
                <a:gridCol w="380988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s of f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e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re it acmes f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Basal di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op resid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tai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rrounding 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</a:tr>
              <a:tr h="268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Supplementary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il seed c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at b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lse ha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tte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dible oil fac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lour fac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n and lintel grinding mil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rom home made local b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tail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19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alibri"/>
              </a:rPr>
              <a:t>Large scale 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 Farm </a:t>
            </a: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eed type and its sourc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0" y="1905120"/>
          <a:ext cx="8915400" cy="6705360"/>
        </p:xfrm>
        <a:graphic>
          <a:graphicData uri="http://schemas.openxmlformats.org/drawingml/2006/table">
            <a:tbl>
              <a:tblPr/>
              <a:tblGrid>
                <a:gridCol w="380880"/>
                <a:gridCol w="2962440"/>
                <a:gridCol w="1830240"/>
                <a:gridCol w="3741840"/>
              </a:tblGrid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s of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3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ed 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3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re it acmes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3db"/>
                    </a:solidFill>
                  </a:tcPr>
                </a:tc>
              </a:tr>
              <a:tr h="64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al di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pplementary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il seed c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at b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ent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lse ha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la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rewery gr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3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3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olesa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dible oil fac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lour fac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ed indust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n and lintel grinding m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tail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gar facto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r processing fac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3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Feed at medium dairy farm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F:\ILRI presentation (Liyusew)\Commercialization pics\HPIM0217.JPG"/>
          <p:cNvPicPr/>
          <p:nvPr/>
        </p:nvPicPr>
        <p:blipFill>
          <a:blip r:embed="rId1"/>
          <a:stretch/>
        </p:blipFill>
        <p:spPr>
          <a:xfrm>
            <a:off x="1676520" y="1935000"/>
            <a:ext cx="57909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06:44:56Z</dcterms:created>
  <dc:creator>User</dc:creator>
  <dc:description/>
  <dc:language>en-US</dc:language>
  <cp:lastModifiedBy>Kara Brown</cp:lastModifiedBy>
  <dcterms:modified xsi:type="dcterms:W3CDTF">2012-02-21T14:09:46Z</dcterms:modified>
  <cp:revision>166</cp:revision>
  <dc:subject/>
  <dc:title>Presentation focus Dairy cow feed and feeding aspects around welemera district (Holetta</dc:title>
</cp:coreProperties>
</file>